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gif" ContentType="image/gi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16BA-1F99-41E7-9DDE-FA199A0F50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617-7B01-4BF3-96DD-46DF310C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065-D0D3-4505-8A7F-870AD7A4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FC3-F43A-458F-91F9-DF27EFEE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1B1-E380-418E-A1F2-7445BE7F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0E2-A9CF-4C3A-8CCB-00524520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E2A-FC4B-44E7-919F-40272856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3A1-3929-4FEA-AA61-6220F68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543-7759-4ED0-91F8-F49D5237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C33-777A-4744-B188-DC533566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746-CF6C-4E08-B8C0-F895324D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6F4-69F0-4C7E-9E7B-DE9563E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BD6-411D-4961-85CF-16078DD2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8C29-F3FA-465D-817D-262DC9B84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846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-方正超大字符集"/>
                <a:ea typeface="宋体-方正超大字符集"/>
              </a:rPr>
              <a:t>3.4.</a:t>
            </a:r>
            <a:r>
              <a:rPr b="1" lang="zh-CN" sz="6000" spc="-1" strike="noStrike">
                <a:solidFill>
                  <a:srgbClr val="ff3300"/>
                </a:solidFill>
                <a:latin typeface="宋体-方正超大字符集"/>
                <a:ea typeface="宋体-方正超大字符集"/>
              </a:rPr>
              <a:t>再探实际问题与一元一次方程（</a:t>
            </a:r>
            <a:r>
              <a:rPr b="1" lang="en-US" sz="6000" spc="-1" strike="noStrike">
                <a:solidFill>
                  <a:srgbClr val="ff3300"/>
                </a:solidFill>
                <a:latin typeface="宋体-方正超大字符集"/>
                <a:ea typeface="宋体-方正超大字符集"/>
              </a:rPr>
              <a:t>3</a:t>
            </a:r>
            <a:r>
              <a:rPr b="1" lang="zh-CN" sz="6000" spc="-1" strike="noStrike">
                <a:solidFill>
                  <a:srgbClr val="ff3300"/>
                </a:solidFill>
                <a:latin typeface="宋体-方正超大字符集"/>
                <a:ea typeface="宋体-方正超大字符集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0" y="3048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幼圆"/>
              </a:rPr>
              <a:t>——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幼圆"/>
              </a:rPr>
              <a:t>球赛积分表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3320" y="1219320"/>
            <a:ext cx="90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问题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通过对球赛积分表的探究，你有什么收获？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23000" y="2895480"/>
            <a:ext cx="446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决有关表格问题，首先根据表格中给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关信息，找出数量间的关系，再运用数学知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决有关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用方程不仅可以求得实际问题的具体数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还可以进行推理判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方程解决实际问题，要检验方程的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否符合实际意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 </a:t>
            </a:r>
            <a:r>
              <a:rPr b="1" lang="en-US" sz="2400" spc="-1" strike="noStrike">
                <a:solidFill>
                  <a:srgbClr val="dd5907"/>
                </a:solidFill>
                <a:latin typeface="Times New Roman"/>
                <a:ea typeface="华文中宋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64520" y="2057400"/>
            <a:ext cx="42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5907"/>
                </a:solidFill>
                <a:latin typeface="宋体"/>
                <a:ea typeface="华文中宋"/>
              </a:rPr>
              <a:t>小结</a:t>
            </a:r>
            <a:r>
              <a:rPr b="1" lang="zh-CN" sz="2400" spc="-1" strike="noStrike">
                <a:solidFill>
                  <a:srgbClr val="dd5907"/>
                </a:solidFill>
                <a:latin typeface="Times New Roman"/>
                <a:ea typeface="华文中宋"/>
              </a:rPr>
              <a:t> </a:t>
            </a:r>
            <a:r>
              <a:rPr b="1" lang="en-US" sz="2400" spc="-1" strike="noStrike">
                <a:solidFill>
                  <a:srgbClr val="dd5907"/>
                </a:solidFill>
                <a:latin typeface="Times New Roman"/>
                <a:ea typeface="华文中宋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5907"/>
                </a:solidFill>
                <a:latin typeface="Times New Roman"/>
                <a:ea typeface="华文中宋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活中数据信息的传递形式是多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议一议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890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549360" y="307800"/>
            <a:ext cx="8874360" cy="360"/>
            <a:chOff x="-549360" y="307800"/>
            <a:chExt cx="8874360" cy="360"/>
          </a:xfrm>
        </p:grpSpPr>
        <p:sp>
          <p:nvSpPr>
            <p:cNvPr id="56" name=""/>
            <p:cNvSpPr/>
            <p:nvPr/>
          </p:nvSpPr>
          <p:spPr>
            <a:xfrm>
              <a:off x="-549360" y="307800"/>
              <a:ext cx="8874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-549360" y="307800"/>
              <a:ext cx="8874360" cy="360"/>
              <a:chOff x="-549360" y="307800"/>
              <a:chExt cx="8874360" cy="360"/>
            </a:xfrm>
          </p:grpSpPr>
          <p:sp>
            <p:nvSpPr>
              <p:cNvPr id="58" name=""/>
              <p:cNvSpPr/>
              <p:nvPr/>
            </p:nvSpPr>
            <p:spPr>
              <a:xfrm>
                <a:off x="-549360" y="307800"/>
                <a:ext cx="8874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-549360" y="307800"/>
                <a:ext cx="8874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473040" y="307800"/>
            <a:ext cx="6823080" cy="360"/>
            <a:chOff x="473040" y="307800"/>
            <a:chExt cx="6823080" cy="360"/>
          </a:xfrm>
        </p:grpSpPr>
        <p:grpSp>
          <p:nvGrpSpPr>
            <p:cNvPr id="61" name=""/>
            <p:cNvGrpSpPr/>
            <p:nvPr/>
          </p:nvGrpSpPr>
          <p:grpSpPr>
            <a:xfrm>
              <a:off x="473040" y="307800"/>
              <a:ext cx="6823080" cy="360"/>
              <a:chOff x="473040" y="307800"/>
              <a:chExt cx="6823080" cy="360"/>
            </a:xfrm>
          </p:grpSpPr>
          <p:sp>
            <p:nvSpPr>
              <p:cNvPr id="62" name=""/>
              <p:cNvSpPr/>
              <p:nvPr/>
            </p:nvSpPr>
            <p:spPr>
              <a:xfrm>
                <a:off x="473040" y="307800"/>
                <a:ext cx="6823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73040" y="307800"/>
                <a:ext cx="6823080" cy="360"/>
                <a:chOff x="473040" y="307800"/>
                <a:chExt cx="6823080" cy="36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473040" y="307800"/>
                  <a:ext cx="6823080" cy="360"/>
                  <a:chOff x="473040" y="307800"/>
                  <a:chExt cx="6823080" cy="36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473040" y="307800"/>
                    <a:ext cx="6823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473040" y="307800"/>
                    <a:ext cx="6823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"/>
                <p:cNvSpPr/>
                <p:nvPr/>
              </p:nvSpPr>
              <p:spPr>
                <a:xfrm>
                  <a:off x="473040" y="307800"/>
                  <a:ext cx="682308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473040" y="307800"/>
              <a:ext cx="6823080" cy="360"/>
            </a:xfrm>
            <a:prstGeom prst="rect">
              <a:avLst/>
            </a:prstGeom>
            <a:noFill/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384800" y="3352680"/>
          <a:ext cx="4572000" cy="3409920"/>
        </p:xfrm>
        <a:graphic>
          <a:graphicData uri="http://schemas.openxmlformats.org/drawingml/2006/table">
            <a:tbl>
              <a:tblPr/>
              <a:tblGrid>
                <a:gridCol w="1255680"/>
                <a:gridCol w="1150920"/>
                <a:gridCol w="722520"/>
                <a:gridCol w="718920"/>
                <a:gridCol w="723960"/>
              </a:tblGrid>
              <a:tr h="44136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队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比赛场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胜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负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积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8628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前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东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光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蓝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雄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远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卫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钢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93480" y="26028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球赛积分表问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5720" y="762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某次男篮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联赛常规赛最终积分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143000"/>
          <a:ext cx="4611600" cy="338940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720720"/>
                <a:gridCol w="718920"/>
                <a:gridCol w="72396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队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比赛场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胜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负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积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前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东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光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蓝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雄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远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卫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钢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825880" y="1268280"/>
            <a:ext cx="219240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问题１：从这张表格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你能得到什么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44720" y="2205000"/>
            <a:ext cx="263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答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这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篮球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支队伍参赛，每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都打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场比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从积分表中可以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每队的胜场数、负场数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积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表格按积分由高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低的顺序排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　　篮球比赛没有平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  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93480" y="26028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球赛积分表问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35720" y="762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某次男篮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联赛常规赛最终积分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143000"/>
          <a:ext cx="4611600" cy="336708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720720"/>
                <a:gridCol w="718920"/>
                <a:gridCol w="7239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队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比赛场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胜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负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积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前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东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光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蓝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雄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远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卫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钢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5698440" y="1219320"/>
            <a:ext cx="1925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这张表格中的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间有什么样的数量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78560" y="2209680"/>
            <a:ext cx="18266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每队的胜场数＋负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这个队比赛场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队胜场总积分＋负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积分＝这个队的总积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队胜场总积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场得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胜场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队负场总积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场得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负场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91840" y="30492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球赛积分表问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50120" y="981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某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男篮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联赛常规赛最终积分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5680" y="4495680"/>
            <a:ext cx="32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03d20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设胜一场得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  <a:ea typeface="幼圆"/>
              </a:rPr>
              <a:t>x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分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  <a:ea typeface="幼圆"/>
              </a:rPr>
              <a:t>.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那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由前进队的积分得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　　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  <a:ea typeface="幼圆"/>
              </a:rPr>
              <a:t>10x+4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＝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  <a:ea typeface="幼圆"/>
              </a:rPr>
              <a:t>2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解这个方程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得：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  <a:ea typeface="幼圆"/>
              </a:rPr>
              <a:t>x=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所以胜一场得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  <a:ea typeface="幼圆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分</a:t>
            </a:r>
            <a:r>
              <a:rPr b="1" lang="en-US" sz="2400" spc="-1" strike="noStrike">
                <a:solidFill>
                  <a:srgbClr val="ff0066"/>
                </a:solidFill>
                <a:latin typeface="幼圆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04920"/>
            <a:ext cx="360072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：请你说出积分规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（既胜一场得几分？负一场得几分？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你是怎样知道这个比赛的积分规则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答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积分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中的最后一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可以知道负一场得１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3505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3d20"/>
                </a:solidFill>
                <a:latin typeface="Arial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从表格中其他任何一行，可以求出胜一场的得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76520"/>
          <a:ext cx="4611600" cy="336708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720720"/>
                <a:gridCol w="718920"/>
                <a:gridCol w="7239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队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比赛场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胜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负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积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前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东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光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蓝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雄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远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卫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钢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某次男篮联赛常规赛最终积分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8672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胜一场积</a:t>
            </a: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，负一场积</a:t>
            </a: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33520"/>
            <a:ext cx="3581280" cy="886320"/>
          </a:xfrm>
          <a:prstGeom prst="rect">
            <a:avLst/>
          </a:prstGeom>
          <a:noFill/>
          <a:ln w="324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列式表示积分与胜、负场数之间的数量关系（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提示：胜场数或负场数不确定，可以用未知数来表示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5146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一个队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场，则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289548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3526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则胜场积分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33526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114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负场积分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53920" y="4114800"/>
            <a:ext cx="10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00600"/>
            <a:ext cx="32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积分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5562720"/>
            <a:ext cx="37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m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＋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m+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990720"/>
          <a:ext cx="4800600" cy="3962160"/>
        </p:xfrm>
        <a:graphic>
          <a:graphicData uri="http://schemas.openxmlformats.org/drawingml/2006/table">
            <a:tbl>
              <a:tblPr/>
              <a:tblGrid>
                <a:gridCol w="1349280"/>
                <a:gridCol w="1198800"/>
                <a:gridCol w="750600"/>
                <a:gridCol w="747720"/>
                <a:gridCol w="754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队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比赛场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胜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负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积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前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东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光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蓝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雄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远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卫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钢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某次男篮联赛常规赛最终积分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8672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胜一场积</a:t>
            </a: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，负一场积</a:t>
            </a: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533520"/>
            <a:ext cx="3581280" cy="886320"/>
          </a:xfrm>
          <a:prstGeom prst="rect">
            <a:avLst/>
          </a:prstGeom>
          <a:noFill/>
          <a:ln w="324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列式表示积分与胜、负场数之间的数量关系（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提示：胜场数或负场数不确定，可以用未知数来表示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5146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一个队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场，则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33526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则胜场积分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32767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4-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114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负场积分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___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328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800600"/>
            <a:ext cx="32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积分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5562720"/>
            <a:ext cx="37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4-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=28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990720"/>
          <a:ext cx="4800600" cy="3962160"/>
        </p:xfrm>
        <a:graphic>
          <a:graphicData uri="http://schemas.openxmlformats.org/drawingml/2006/table">
            <a:tbl>
              <a:tblPr/>
              <a:tblGrid>
                <a:gridCol w="1349280"/>
                <a:gridCol w="1198800"/>
                <a:gridCol w="750600"/>
                <a:gridCol w="747720"/>
                <a:gridCol w="754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队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比赛场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胜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负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积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前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东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光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蓝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雄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远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卫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钢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1676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一个队胜了</a:t>
            </a:r>
            <a:r>
              <a:rPr b="0" lang="en-US" sz="2000" spc="-1" strike="noStrike">
                <a:solidFill>
                  <a:srgbClr val="000000"/>
                </a:solidFill>
                <a:latin typeface="바탕"/>
                <a:ea typeface="바탕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，则负       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990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问题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隶书"/>
              </a:rPr>
              <a:t>有没有某队的胜场总积分能等于负场总积分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20968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如果这个队的胜场总积分等于负场总积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隶书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96160" y="220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则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12408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由此得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95280" cy="428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71800" y="36576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表示什么量</a:t>
            </a:r>
            <a:r>
              <a:rPr b="0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r>
              <a:rPr b="0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它可以是分数吗</a:t>
            </a:r>
            <a:r>
              <a:rPr b="0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8769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由此你得出什么结论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285840" cy="619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5943600"/>
            <a:ext cx="83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决实际问题时，要考虑得到结果是不是符合实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54100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以判定没有哪个队的胜场总积分等于负场总积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9320" y="3733920"/>
            <a:ext cx="14382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: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260280"/>
            <a:ext cx="1971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猜一猜</a:t>
            </a: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: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6668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2x </a:t>
            </a:r>
            <a:r>
              <a:rPr b="1" lang="zh-CN" sz="2000" spc="-1" strike="noStrike">
                <a:solidFill>
                  <a:srgbClr val="cc00ff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14 </a:t>
            </a:r>
            <a:r>
              <a:rPr b="1" lang="zh-CN" sz="2000" spc="-1" strike="noStrike">
                <a:solidFill>
                  <a:srgbClr val="cc00ff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cc00ff"/>
                </a:solidFill>
                <a:latin typeface="Arial"/>
              </a:rPr>
              <a:t>）＝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153280" y="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209680" y="2971800"/>
            <a:ext cx="838440" cy="765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60962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999数学网 www.12999.com</dc:creator>
  <dc:description/>
  <cp:keywords/>
  <dc:language>en-US</dc:language>
  <cp:lastModifiedBy>微软用户</cp:lastModifiedBy>
  <dcterms:modified xsi:type="dcterms:W3CDTF">2014-06-30T01:14:25Z</dcterms:modified>
  <cp:revision>11</cp:revision>
  <dc:subject>12999数学网 www.12999.com</dc:subject>
  <dc:title>12999数学网 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NXTAG2">
    <vt:lpwstr>000800e0070000000000010250600207f7000400038000</vt:lpwstr>
  </property>
  <property fmtid="{D5CDD505-2E9C-101B-9397-08002B2CF9AE}" pid="4" name="Version">
    <vt:r8>1</vt:r8>
  </property>
</Properties>
</file>